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A6A0-1953-49BD-8CA0-EBF0ED45F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il explains the three clustering goal of Red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ovide three configurations that meet various usage scenarios while FMS only provides Edge/Origin solution without Origin clust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acotta is a famous and mature java clustering solution. It’s open source and free. We are working together with the Terracotta team to accomplish the goal of Red5 cluster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al configuration is for quick server cluster setup. What you need is just pick a generic HTTP load balancer (Hardware or software) and configure the Red5 server to run on Terracot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racotta Server is used to manage the Terracotta clus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amework can support a large amount of concurrent connections with the medium size client interaction (which means the amount of connections that share a RSO or join in a Live conference is not very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e Server is used to manage connections. The actual requests from client will be multiplexed and forwarded to Origin Server in which the requests are actually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ge Servers run on Terracotta and clustered while Origin Server runs separately. The request is balanced per URL patterns. So different applications can run on different Origin Servers, or different sub-functions in one application can run on different Origin Servers (thus load-balancing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for a Live conference application, say the URL is at App/Lobby/Room1, the Edge Server will route the request to a specific Origin, thus the conference is held on that Orig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ncurrent interaction requirement is mandatory, say in a big online gaming where the amount of concurrent connections that connect to the same RSO is large, a Origin Server clustering solution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above is different from the last diagram in that the Origin Servers run on Terracotta so that a specific RSO can be shared across the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between Edge and Origin could be cross link or a load-balancer. The load-balancer is preferred as in this case there should be no difference to connect Origin Server A or Origin Server 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BE603-B0F0-46AC-AE7C-FA89CBD38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E5B08-1D79-49FD-8523-995E5D391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EEA07-5823-46C5-8491-10D8A674F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8555E-74B8-490F-87FA-B14BBA7FB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A815-E05B-4C2E-8B59-B2924E894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77C12-085F-46A4-9B60-117642228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9D916-38AA-4300-8C6F-FC6284EF3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B407-CBF7-4281-8DD3-B4C6BC031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8582B-465A-4910-AF7C-14F4C07DE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CBEE-A2AB-4E9E-98F0-8EB6A7B80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85AB-4661-489B-AC4D-839B3E1BE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59D3D-AF86-4940-A1DC-786D08794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EF44-9113-4C44-BECD-BCCA792EB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erracotta.org/"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Design Idea of</a:t>
            </a:r>
            <a:br>
              <a:rPr sz="4000"/>
            </a:br>
            <a:r>
              <a:rPr b="0" lang="en-US" sz="4000" spc="-1" strike="noStrike">
                <a:solidFill>
                  <a:srgbClr val="000000"/>
                </a:solidFill>
                <a:latin typeface="Arial"/>
              </a:rPr>
              <a:t>Red5 Clustering</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capacity is enlarged when more hardwares are add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ov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will not notice the server node fail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balanc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is properly balanced among server clu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rious Clustering Configurations</a:t>
            </a:r>
            <a:br>
              <a:rPr sz="4000"/>
            </a:br>
            <a:r>
              <a:rPr b="0" lang="en-US" sz="4000" spc="-1" strike="noStrike">
                <a:solidFill>
                  <a:srgbClr val="000000"/>
                </a:solidFill>
                <a:latin typeface="Arial"/>
              </a:rPr>
              <a:t>to Meet Various Usage Scenario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al Configuration and Quick Setu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System or Testing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oun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Concurrence with Medium Size Client Interac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Syste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Concurrence with Big Size Client Interac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Online Ga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Feasibilit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acot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Java Clustering Open Source Sol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terracotta.or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C team is now working with us to achieve the clustering goal of Red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imal Configuration</a:t>
            </a:r>
            <a:endParaRPr b="0" lang="en-US" sz="4400" spc="-1" strike="noStrike">
              <a:solidFill>
                <a:srgbClr val="000000"/>
              </a:solidFill>
              <a:latin typeface="Arial"/>
            </a:endParaRPr>
          </a:p>
        </p:txBody>
      </p:sp>
      <p:graphicFrame>
        <p:nvGraphicFramePr>
          <p:cNvPr id="55" name=""/>
          <p:cNvGraphicFramePr/>
          <p:nvPr/>
        </p:nvGraphicFramePr>
        <p:xfrm>
          <a:off x="1187280" y="2060640"/>
          <a:ext cx="6840720" cy="2970000"/>
        </p:xfrm>
        <a:graphic>
          <a:graphicData uri="http://schemas.openxmlformats.org/presentationml/2006/ole">
            <p:oleObj r:id="rId1" spid="">
              <p:embed/>
              <p:pic>
                <p:nvPicPr>
                  <p:cNvPr id="56" name="" descr=""/>
                  <p:cNvPicPr/>
                  <p:nvPr/>
                </p:nvPicPr>
                <p:blipFill>
                  <a:blip r:embed="rId2"/>
                  <a:stretch/>
                </p:blipFill>
                <p:spPr>
                  <a:xfrm>
                    <a:off x="1187280" y="2060640"/>
                    <a:ext cx="6840720" cy="297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Concurrence with Medium Size Client Interaction</a:t>
            </a:r>
            <a:endParaRPr b="0" lang="en-US" sz="4000" spc="-1" strike="noStrike">
              <a:solidFill>
                <a:srgbClr val="000000"/>
              </a:solidFill>
              <a:latin typeface="Arial"/>
            </a:endParaRPr>
          </a:p>
        </p:txBody>
      </p:sp>
      <p:graphicFrame>
        <p:nvGraphicFramePr>
          <p:cNvPr id="58" name=""/>
          <p:cNvGraphicFramePr/>
          <p:nvPr/>
        </p:nvGraphicFramePr>
        <p:xfrm>
          <a:off x="1476360" y="1628640"/>
          <a:ext cx="6480360" cy="4683240"/>
        </p:xfrm>
        <a:graphic>
          <a:graphicData uri="http://schemas.openxmlformats.org/presentationml/2006/ole">
            <p:oleObj r:id="rId1" spid="">
              <p:embed/>
              <p:pic>
                <p:nvPicPr>
                  <p:cNvPr id="59" name="" descr=""/>
                  <p:cNvPicPr/>
                  <p:nvPr/>
                </p:nvPicPr>
                <p:blipFill>
                  <a:blip r:embed="rId2"/>
                  <a:stretch/>
                </p:blipFill>
                <p:spPr>
                  <a:xfrm>
                    <a:off x="1476360" y="1628640"/>
                    <a:ext cx="64803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Concurrence with Big Size Client Interaction</a:t>
            </a:r>
            <a:endParaRPr b="0" lang="en-US" sz="4000" spc="-1" strike="noStrike">
              <a:solidFill>
                <a:srgbClr val="000000"/>
              </a:solidFill>
              <a:latin typeface="Arial"/>
            </a:endParaRPr>
          </a:p>
        </p:txBody>
      </p:sp>
      <p:graphicFrame>
        <p:nvGraphicFramePr>
          <p:cNvPr id="61" name=""/>
          <p:cNvGraphicFramePr/>
          <p:nvPr/>
        </p:nvGraphicFramePr>
        <p:xfrm>
          <a:off x="1403280" y="1773360"/>
          <a:ext cx="6264360" cy="4255920"/>
        </p:xfrm>
        <a:graphic>
          <a:graphicData uri="http://schemas.openxmlformats.org/presentationml/2006/ole">
            <p:oleObj r:id="rId1" spid="">
              <p:embed/>
              <p:pic>
                <p:nvPicPr>
                  <p:cNvPr id="62" name="" descr=""/>
                  <p:cNvPicPr/>
                  <p:nvPr/>
                </p:nvPicPr>
                <p:blipFill>
                  <a:blip r:embed="rId2"/>
                  <a:stretch/>
                </p:blipFill>
                <p:spPr>
                  <a:xfrm>
                    <a:off x="1403280" y="1773360"/>
                    <a:ext cx="6264360" cy="425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5T12:01:54Z</dcterms:created>
  <dc:creator>jgong5</dc:creator>
  <dc:description/>
  <dc:language>en-US</dc:language>
  <cp:lastModifiedBy>jgong5</cp:lastModifiedBy>
  <dcterms:modified xsi:type="dcterms:W3CDTF">2007-06-15T12:39:18Z</dcterms:modified>
  <cp:revision>43</cp:revision>
  <dc:subject/>
  <dc:title>Some Design Idea of Red5 Clustering</dc:title>
</cp:coreProperties>
</file>